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BEBB-8862-4993-95AE-9A9266DC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9B6-497D-45C0-896E-38BACF04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58E-328D-4F82-86FD-3578370F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045-F41D-479C-9A5F-D1421C2A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4E0-20DD-44E4-BD3E-93E1615D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884-C1BB-409D-8F73-A9C8DBAF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BAD-1D65-4E86-823A-10D575C7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0819-EFAC-4456-8178-57E1DA29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E95-0E25-4A0C-A2C5-5D1EB24E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2F42-A5A1-42C9-BF6F-4DA45C9F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A7F-55EC-43C1-B56C-458DC58F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39EB-7BB0-4DDA-AC8A-F50974C9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415E-BC6C-42E3-9EE6-126239F7E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a.4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56000" y="2565360"/>
            <a:ext cx="3914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rugs as life savers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at is classed as a medic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y viral infections cannot be treated with antibio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your written work by answering the last of the summary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Look at the Key Points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3 is especially important. Can you explain why a doctor will not give you antibiotic as a cure for a co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at is classed as a medic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y viral infections cannot be treated with antibio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n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your 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Pairs. Call yourselves A and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’  - Can you explain what a medicine is to your partn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sk ‘B’  to explain why antibiotics are no good in treating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at is classed as a medic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y viral infections cannot be treated with antibio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7640" y="264312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778360" y="1803240"/>
            <a:ext cx="1778040" cy="1778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749920" y="3938760"/>
            <a:ext cx="18352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of the medicines we take when we have infections are not cures but simply relieve symp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reduce our discomfort and give our bodies time to recover using our natural def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Do you remember what our natural defences 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How do Aspirin  and Paracetamol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at is classed as a medic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y viral infections cannot be treated with antibio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at is classed as a medic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y viral infections cannot be treated with antibio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azing class of drugs which really can cure are called ANTIBIO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the power to destroy disease carrying 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3645000"/>
            <a:ext cx="2057400" cy="1485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76720" y="3141720"/>
            <a:ext cx="2849760" cy="2187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5589720"/>
            <a:ext cx="792000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have helped to treat some of the worst infectious diseases known to 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diseases are so terrible that we use innoculation and vaccination to try to prevent spread of in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s we can now treat to prevent the worst of the symptoms devel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at is classed as a medic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y viral infections cannot be treated with antibiot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3645000"/>
            <a:ext cx="2933640" cy="2031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48360" y="3573360"/>
            <a:ext cx="3479760" cy="2756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95640" y="476280"/>
            <a:ext cx="4896000" cy="2895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322200"/>
            <a:ext cx="331164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ath from diseases which were once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68360" y="2554200"/>
            <a:ext cx="1727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ta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6165720"/>
            <a:ext cx="2592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5950080"/>
            <a:ext cx="4248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bonic Plague - Black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at is classed as a medic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y viral infections cannot be treated with antibio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Drugs to Treat Diseas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00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Explain the difference between a drug like Aspirin and a drug like Penicillin (an Antibio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4 minutes to do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at is classed as a medic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y viral infections cannot be treated with antibio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exander Fleming discovered Penicillin in 192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the story of this discovery on page 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Now write a full answer to question 2 on page 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at is classed as a medic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y viral infections cannot be treated with antibio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lets read about how antibiotic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4029120" cy="218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3027600" cy="2187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5877000"/>
            <a:ext cx="41767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plates show colonies of bacteria grow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76720" y="4437000"/>
            <a:ext cx="38163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these plates, discs soaked in antibiotics are placed on the growing colonies. We can see the most effective antibio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8:09:45Z</dcterms:created>
  <dc:creator>Pat</dc:creator>
  <dc:description/>
  <dc:language>en-US</dc:language>
  <cp:lastModifiedBy>sthalliwellp</cp:lastModifiedBy>
  <dcterms:modified xsi:type="dcterms:W3CDTF">2006-10-10T14:20:39Z</dcterms:modified>
  <cp:revision>4</cp:revision>
  <dc:subject/>
  <dc:title>Slide 1</dc:title>
</cp:coreProperties>
</file>